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451-2B1A-479F-AA22-49FF784F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B36-7AE9-4928-935F-E41D65E3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361-8B2F-43B1-9C26-8121804B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60A-F4DA-49E7-8EC0-421EE008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EC19-A3D9-44B9-BF28-D21A6D4B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023D-D4EB-412B-AA56-D736BEB4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F67F-F189-44C1-AEC5-906E5BC6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0424-F9DB-403C-81D1-DC4D7F90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FFC2-0223-42D7-93C4-9C003DCD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BFB1-2F9D-4164-88B8-43E7B974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8DBD-4C45-4533-99E8-0E3BB7BF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0B0-95EF-4AAF-8D24-BED217AE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7AA6-7392-4650-8508-959A5A0B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3386-A8F1-4FAE-BE99-BEF748E4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8064-8F24-430C-85FE-DF6B20F1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21E4-CD63-4841-B62F-AD472867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5BDB-460E-489A-9DA9-5E565A31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C192B-5E48-4ACC-8256-4591D6F0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E36F0-551C-47BA-8D1F-A2F544EC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E960E-587C-4E67-8797-92F2D7B9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11706-E11F-46E3-8E82-BC5E8CAE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90885-0B88-40B4-B642-45B82CA1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85E-618A-46B9-BCFF-08524AB7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88F8A-ECA2-450D-B781-E5F91FB1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2D588-538D-43EE-9D00-61275D22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D67AB-7D9D-461B-9D33-E7153BFE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5C66C-B48C-45CF-A11B-A65294CA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E37EE-42DF-44E3-AEEC-6F8F3AF4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F2BD9-83B4-498C-A4BF-21E2FA49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1EB57-9221-43A4-9FF5-70144050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92CB5-65AA-41B3-9827-7EA162D9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ED12A-E979-4A86-8854-CF3625CB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8D9389-3E0B-4CAE-8648-C1C4E893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625-41C1-4D61-B20C-2B9ABD53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0C69D-2FC9-410B-9B6D-2E013C56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8B0DB2-390E-4DE4-AC3D-9CE5A4CD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DA673-8677-4BE3-817D-776B0757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9F3070-1EF4-4C2B-9E97-3039770A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F1865-516E-4DCC-8842-B05EAC54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83452-B486-444B-8B9B-344C2AD0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A6452E-FC50-4046-A10C-D4D5F081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D83D72-CD1F-4C34-B50B-BD07BDA9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44BB56-B81F-4CD2-A54D-93C0ECAB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A1F7A-5F57-4247-8C99-45BE6EB4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634-62A4-4BB8-95C3-C2FFEDEE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E07B5-6721-4919-B149-93613F7B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925F11-841C-4F4A-B49D-C1168339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B1467-13E0-4706-9A9B-10B63431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6FC1B-EB1E-4420-980B-7C207A38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26259B-225F-4A01-824D-BAB38917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4736A-F8A1-458F-87F2-55A225CA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17874-7A2D-4CB2-9948-CB7F33DC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2FCE5-FA65-4DAB-A9DF-55802999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5E283-D65C-4DEC-8C16-5292EBDD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407D0-56BA-4FD0-B3F6-965E53B0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29C-747B-48EC-AF3B-6EAEA5D6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7B092-3C2F-433A-9306-782737CE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DB0B2-99EA-4078-8E5D-E88B9DBB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36492-2BD0-4960-9312-E42572FD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75FF6-7619-4809-9FDD-0A35AD58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6FBAB-1188-49E0-AECB-139E8005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06971-D5ED-4777-BE58-FFF74710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E12B9-E7FA-41DD-987D-4BBF96A8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91F43-9253-43BA-AB32-C230CE45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E991A-3A79-4BD7-84A1-FC2ACDCA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50FB8-123A-4F96-BEE5-68CEC72E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8EE-A72C-4AD5-9168-39949C27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D8ED3-5731-4019-AF22-8FF9716A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67602-AD8E-4AB6-AC53-ECE594FE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22B69-81ED-494F-8B63-A91D1B9C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7DFE5-302C-48C7-8EE2-72B83DB6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0468D5-7745-4FCA-847F-B2938826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9D7FBB-0448-4A2F-9D4C-92D236DC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A10C4-C215-42DA-ABF6-53DA0D0E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EB1E7-B616-4F4C-8369-319698BA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38DD3D-88D5-47ED-9D89-78568E58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0A9628-B3C2-479E-9460-A71FD69D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5FF-99F4-4AFF-8102-41DCF189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D257F0-35FC-4757-A53C-8A3BB7E5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A6F5E2-2ADE-4737-BCC1-96FEB51B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9C4130-0978-4DC5-984E-D75C6D2E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0EEA11-1B5B-4418-8F33-C953A3F0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5BD0EC-2CCA-4B44-B6D0-D43E84A4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3715A-C50B-4832-9AA7-318B4881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8214D-CF91-40B7-9A02-84DC771A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327B3-9BE1-47B0-AE63-E1E9AD04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82A9C-3144-4763-82BE-CA3ABC6D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5F237-0835-436B-9D27-50D1660D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27C-ADE1-4CEE-8BC2-D668F4B8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BEC7E-19F7-4003-9119-CE379774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2923E-E5D5-42B0-BE7C-43633CBF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4B77C-D458-47EF-8017-6CBBB2E6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4FCC6-1D72-4711-9B91-C36C06E3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D7B54-5763-45A0-A730-94CEFFB1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F5A24-3BC8-4035-97DC-F8D5BDD7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87C74-17B0-4C3D-BA46-4BCC9542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CE03-3D51-47FC-A364-2EA702D4C809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4939-2BD0-40C6-91E8-8D9E85D240E4}" type="slidenum">
              <a:rPr b="1" lang="en-CA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A2C6-DCE3-40EA-BDE0-4309E5AACC7F}" type="slidenum">
              <a:rPr b="1" lang="en-C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CE77-8200-4F48-AC70-004F097B9E1A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3DA7-A768-4A2B-9823-BB7AAAE5347B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E80B-0C25-4B64-B843-154EBE468560}" type="slidenum">
              <a:rPr b="1" lang="en-CA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E54A-E1AD-441B-BB66-5E415BB4C545}" type="slidenum">
              <a:rPr b="1" lang="en-C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FA19-3E24-4233-A7D5-FA64F8124A21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irst Nations and European Settl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28600" y="1600200"/>
          <a:ext cx="8763120" cy="50673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59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rst N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uropean Settl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75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ee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a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36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odu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36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stribu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irst Nations and European Settl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28600" y="1600200"/>
          <a:ext cx="8763120" cy="50673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630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rst N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uropean Settl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Things that were found naturally where they l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Land and natural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ee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a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4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de by h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sed simple to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nected with spiritual belie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odu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4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hared equally in the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 private ownership of land or natural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stribu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irst Nations and European Settl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28600" y="1600200"/>
          <a:ext cx="8763120" cy="50673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62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rst N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uropean Settl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Things that were found naturally where they li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Land and natural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ee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a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ased on land and natural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ake it back to Eur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42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de by h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sed simple to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nected with spiritual belie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odu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Made by h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Used simple to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Specialized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hared equally in the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w Cen M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 private ownership of land or natural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stribu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individuals/families worked mostly for their own 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private ownership very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2:53:46Z</dcterms:created>
  <dc:creator>ladmin</dc:creator>
  <dc:description/>
  <dc:language>en-US</dc:language>
  <cp:lastModifiedBy>ladmin</cp:lastModifiedBy>
  <dcterms:modified xsi:type="dcterms:W3CDTF">2014-10-14T22:51:38Z</dcterms:modified>
  <cp:revision>57</cp:revision>
  <dc:subject/>
  <dc:title>Economic Empowerment</dc:title>
</cp:coreProperties>
</file>